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cool%20man.wav" ContentType="audio/x-wav"/>
  <Override PartName="/ppt/media/children%20yeah.wav" ContentType="audio/x-wav"/>
  <Override PartName="/ppt/media/peopleooo.wav" ContentType="audio/x-wav"/>
  <Override PartName="/ppt/media/zipup202.wav" ContentType="audio/x-wav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boinng04.wav" ContentType="audio/x-wav"/>
  <Override PartName="/ppt/media/partyhorn.wav" ContentType="audio/x-wav"/>
  <Override PartName="/ppt/media/bserie06.wav" ContentType="audio/x-wav"/>
  <Override PartName="/ppt/media/hzipup01.wav" ContentType="audio/x-wav"/>
  <Override PartName="/ppt/media/glas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011-D3A7-4995-9EC4-1D337FDA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E66-422B-4C80-9216-E2B5953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C72-D985-4373-AB83-53DA5363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54D-7BAF-4F3F-9563-46E2E090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E6C-06AC-430C-9B92-EC5972BE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459-A319-494F-A06C-140BAB5B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E4F-705F-4C8B-AE94-BF7CD681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E3F-CC5C-4646-95ED-04806879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198-A12F-4A14-A8AA-51E6B577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108-3825-4820-833D-E4F5F84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245-BE62-4C8D-AF0D-FEA246D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7F5-2F86-4DA0-9FE9-AC8DD556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C33-676C-45C3-BC65-C0364F98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PROJCTOR.WAV"/><Relationship Id="rId4" Type="http://schemas.openxmlformats.org/officeDocument/2006/relationships/audio" Target="../media/partyhorn.wav"/><Relationship Id="rId5" Type="http://schemas.openxmlformats.org/officeDocument/2006/relationships/audio" Target="../media/bserie06.wav"/><Relationship Id="rId6" Type="http://schemas.openxmlformats.org/officeDocument/2006/relationships/audio" Target="../media/partyhorn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ipup202.wav"/><Relationship Id="rId10" Type="http://schemas.openxmlformats.org/officeDocument/2006/relationships/audio" Target="../media/zipup202.wav"/><Relationship Id="rId11" Type="http://schemas.openxmlformats.org/officeDocument/2006/relationships/audio" Target="../media/zipup202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audio" Target="../media/zipup202.wav"/><Relationship Id="rId15" Type="http://schemas.openxmlformats.org/officeDocument/2006/relationships/audio" Target="../media/partyhorn.wav"/><Relationship Id="rId16" Type="http://schemas.openxmlformats.org/officeDocument/2006/relationships/audio" Target="../media/partyhorn.wav"/><Relationship Id="rId17" Type="http://schemas.openxmlformats.org/officeDocument/2006/relationships/audio" Target="../media/zipup202.wav"/><Relationship Id="rId18" Type="http://schemas.openxmlformats.org/officeDocument/2006/relationships/audio" Target="../media/zipup202.wav"/><Relationship Id="rId19" Type="http://schemas.openxmlformats.org/officeDocument/2006/relationships/audio" Target="../media/zipup202.wav"/><Relationship Id="rId20" Type="http://schemas.openxmlformats.org/officeDocument/2006/relationships/audio" Target="../media/zipup202.wav"/><Relationship Id="rId21" Type="http://schemas.openxmlformats.org/officeDocument/2006/relationships/audio" Target="../media/zipup202.wav"/><Relationship Id="rId22" Type="http://schemas.openxmlformats.org/officeDocument/2006/relationships/audio" Target="../media/zipup202.wav"/><Relationship Id="rId23" Type="http://schemas.openxmlformats.org/officeDocument/2006/relationships/audio" Target="../media/peopleooo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children%20yeah.wav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hzipup01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cool%20ma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up202.wav"/><Relationship Id="rId16" Type="http://schemas.openxmlformats.org/officeDocument/2006/relationships/audio" Target="../media/hzipup01.wav"/><Relationship Id="rId17" Type="http://schemas.openxmlformats.org/officeDocument/2006/relationships/audio" Target="../media/cool%20man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boinng04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children%20yeah.wav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hzipup01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cool%20man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up202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bserie06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cool%20man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children%20yeah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children%20yeah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hzipup01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hzipup01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hzipup01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children%20yeah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children%20yeah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up202.wav"/><Relationship Id="rId22" Type="http://schemas.openxmlformats.org/officeDocument/2006/relationships/audio" Target="../media/hzipup01.wav"/><Relationship Id="rId23" Type="http://schemas.openxmlformats.org/officeDocument/2006/relationships/audio" Target="../media/peopleooo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cool%20man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audio" Target="../media/zipup202.wav"/><Relationship Id="rId32" Type="http://schemas.openxmlformats.org/officeDocument/2006/relationships/audio" Target="../media/hzipup01.wav"/><Relationship Id="rId33" Type="http://schemas.openxmlformats.org/officeDocument/2006/relationships/audio" Target="../media/cool%20man.wav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" y="852480"/>
            <a:ext cx="8686800" cy="55119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28800"/>
            <a:ext cx="8626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actoring a Quadratic Expression when </a:t>
            </a:r>
            <a:r>
              <a:rPr b="1" i="1" lang="en-US" sz="3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 is not 1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7520" y="1592280"/>
            <a:ext cx="76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41560" y="1469880"/>
                <a:ext cx="2676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89080" y="1589040"/>
            <a:ext cx="841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 you need to find the factors of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and the factors of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(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so the sum of the outer and inner products (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mq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663300"/>
                </a:solidFill>
                <a:latin typeface="Times New Roman"/>
              </a:rPr>
              <a:t>p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 is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031840" y="3643200"/>
                <a:ext cx="2922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11120" y="4362480"/>
                <a:ext cx="4071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652760" y="4435560"/>
                <a:ext cx="766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21240" y="4546440"/>
                <a:ext cx="4791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76360" y="4425840"/>
                <a:ext cx="766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40360" y="4424400"/>
                <a:ext cx="912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44680" y="5005440"/>
                <a:ext cx="911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179960" y="4976640"/>
                <a:ext cx="7682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703840" y="37828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4160" y="37735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42120" y="4367160"/>
                <a:ext cx="100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381720" y="4465800"/>
                <a:ext cx="9129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246800" y="4356000"/>
                <a:ext cx="1393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518080" y="4935600"/>
                <a:ext cx="770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130800" y="4924440"/>
                <a:ext cx="1203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259760" y="4938840"/>
                <a:ext cx="1203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54120" y="5533920"/>
                <a:ext cx="3225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1200" y="1563840"/>
                <a:ext cx="412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19240" y="2901960"/>
                <a:ext cx="5092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28760" y="296712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397240" y="31320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201680" y="296712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970360" y="291780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141560" y="35830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989440" y="3578400"/>
                <a:ext cx="1008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924520" y="233208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12000" y="233208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386320" y="2978280"/>
                <a:ext cx="1298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588000" y="3106800"/>
                <a:ext cx="824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292880" y="2982960"/>
                <a:ext cx="1603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60320" y="2117880"/>
                <a:ext cx="3976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308560" y="3618000"/>
                <a:ext cx="1255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483240" y="3606840"/>
                <a:ext cx="10414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497720" y="3622680"/>
                <a:ext cx="1646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"/>
          <p:cNvGrpSpPr/>
          <p:nvPr/>
        </p:nvGrpSpPr>
        <p:grpSpPr>
          <a:xfrm>
            <a:off x="219240" y="4156200"/>
            <a:ext cx="5092560" cy="950760"/>
            <a:chOff x="219240" y="4156200"/>
            <a:chExt cx="5092560" cy="950760"/>
          </a:xfrm>
        </p:grpSpPr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219240" y="4156200"/>
                  <a:ext cx="50925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428760" y="4221000"/>
                  <a:ext cx="8967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397240" y="4386240"/>
                  <a:ext cx="5601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6240" y="419400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25800" y="419904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41560" y="4863960"/>
                <a:ext cx="10080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89440" y="483552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394240" y="4262400"/>
                <a:ext cx="1040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415200" y="4280040"/>
                <a:ext cx="1082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40560" y="4268880"/>
                <a:ext cx="1603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308560" y="4871880"/>
                <a:ext cx="12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461280" y="4861080"/>
                <a:ext cx="108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97720" y="4876920"/>
                <a:ext cx="1646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54320" y="5613480"/>
                <a:ext cx="4824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1200" y="1563840"/>
                <a:ext cx="412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768320" y="3043080"/>
                <a:ext cx="2799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168880" y="2998800"/>
                <a:ext cx="2408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56000" y="3622680"/>
                <a:ext cx="1063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544920" y="361152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595840" y="360216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664320" y="3591000"/>
                <a:ext cx="10047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1943280" y="43610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18120" y="43639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651040" y="4294080"/>
                <a:ext cx="895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524400" y="4305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029280" y="447516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589800" y="4319640"/>
                <a:ext cx="100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2720880" y="499752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3720" y="498636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76400" y="4886280"/>
                <a:ext cx="505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110120" y="4886280"/>
                <a:ext cx="5061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971800" y="5396040"/>
                <a:ext cx="1414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257560" y="2200320"/>
                <a:ext cx="4824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11200" y="1563840"/>
                <a:ext cx="4122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19240" y="226044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28760" y="232560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397240" y="249084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650960" y="2325600"/>
                <a:ext cx="3920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452760" y="2320920"/>
                <a:ext cx="560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562040" y="297036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525840" y="2922480"/>
                <a:ext cx="39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5924520" y="169056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2000" y="169056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580000" y="2336760"/>
                <a:ext cx="909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588000" y="2465280"/>
                <a:ext cx="824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7466040" y="2341440"/>
                <a:ext cx="12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711760" y="2944800"/>
                <a:ext cx="692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461280" y="2965320"/>
                <a:ext cx="108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534440" y="2997360"/>
                <a:ext cx="1082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652760" y="3579840"/>
                <a:ext cx="3920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468600" y="360360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609560" y="4268880"/>
                <a:ext cx="560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541680" y="4313160"/>
                <a:ext cx="39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67400" y="3621240"/>
                <a:ext cx="693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84960" y="3638520"/>
                <a:ext cx="10825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510320" y="3643200"/>
                <a:ext cx="10843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611680" y="4230720"/>
                <a:ext cx="649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369120" y="4219560"/>
                <a:ext cx="10857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515360" y="4363920"/>
                <a:ext cx="1125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97000" y="5172120"/>
                <a:ext cx="51055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31920" y="4548240"/>
                <a:ext cx="4334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216240" y="4454640"/>
                <a:ext cx="477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22120" y="3481560"/>
                <a:ext cx="5092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8640" y="3530520"/>
                <a:ext cx="841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414520" y="3579840"/>
                <a:ext cx="8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021360" y="747720"/>
            <a:ext cx="257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btract to get middle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35360" y="1630080"/>
            <a:ext cx="3169800" cy="609840"/>
            <a:chOff x="2835360" y="1630080"/>
            <a:chExt cx="3169800" cy="609840"/>
          </a:xfrm>
        </p:grpSpPr>
        <p:sp>
          <p:nvSpPr>
            <p:cNvPr id="365" name=""/>
            <p:cNvSpPr/>
            <p:nvPr/>
          </p:nvSpPr>
          <p:spPr>
            <a:xfrm>
              <a:off x="2835360" y="1798560"/>
              <a:ext cx="574920" cy="441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6" name=""/>
            <p:cNvCxnSpPr>
              <a:stCxn id="365" idx="7"/>
              <a:endCxn id="363" idx="1"/>
            </p:cNvCxnSpPr>
            <p:nvPr/>
          </p:nvCxnSpPr>
          <p:spPr>
            <a:xfrm flipH="1" flipV="1" rot="5400000">
              <a:off x="4555800" y="399960"/>
              <a:ext cx="219600" cy="2679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500"/>
                            </p:stCondLst>
                            <p:childTnLst>
                              <p:par>
                                <p:cTn id="16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11200" y="1563840"/>
                <a:ext cx="412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768320" y="3043080"/>
                <a:ext cx="2799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906800" y="2998800"/>
                <a:ext cx="2687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556000" y="3622680"/>
                <a:ext cx="1063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544920" y="361152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651640" y="3629160"/>
                <a:ext cx="896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735600" y="3648240"/>
                <a:ext cx="892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943280" y="43610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18120" y="43639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679840" y="4294080"/>
                <a:ext cx="838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524400" y="43052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740560" y="431496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516720" y="4287960"/>
                <a:ext cx="1400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2720880" y="499752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33720" y="498636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876400" y="4886280"/>
                <a:ext cx="505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110120" y="4886280"/>
                <a:ext cx="5061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971800" y="5396040"/>
                <a:ext cx="1414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116080" y="2200320"/>
                <a:ext cx="51055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5905440" y="499752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18280" y="498636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032520" y="491328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267680" y="491328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5967360" y="5396040"/>
                <a:ext cx="1792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5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0440" y="1854360"/>
                <a:ext cx="3689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Pair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44680" y="270504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17680" y="337176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332160" y="332424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13280" y="2624040"/>
                <a:ext cx="1177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000920" y="2589120"/>
                <a:ext cx="1627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28760" y="4197240"/>
                <a:ext cx="37591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31720" y="1854360"/>
                <a:ext cx="3546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Pair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1680" y="2678040"/>
                <a:ext cx="1008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332160" y="332424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52960" y="2624040"/>
                <a:ext cx="89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28760" y="4272120"/>
                <a:ext cx="3759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13600" y="2589120"/>
                <a:ext cx="1401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4520" y="3267000"/>
                <a:ext cx="896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818320" y="3281400"/>
                <a:ext cx="1344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107120" y="3295800"/>
                <a:ext cx="14004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36680" y="1854360"/>
                <a:ext cx="3738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Pair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8880" y="272736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44680" y="2678040"/>
                <a:ext cx="1063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17680" y="3343320"/>
                <a:ext cx="1063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332160" y="332424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937040" y="2611440"/>
                <a:ext cx="11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28760" y="4272120"/>
                <a:ext cx="3759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070760" y="2614680"/>
                <a:ext cx="1738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51520" y="3267000"/>
                <a:ext cx="841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91320" y="3281400"/>
                <a:ext cx="1400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93080" y="3282840"/>
                <a:ext cx="1681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84040" y="1824120"/>
                <a:ext cx="4073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33800" y="2705040"/>
                <a:ext cx="1287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17680" y="337176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63760" y="331164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638600" y="2608200"/>
                <a:ext cx="1514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12000" y="2692440"/>
                <a:ext cx="1066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940440" y="2589120"/>
                <a:ext cx="2021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11560" y="5592600"/>
                <a:ext cx="39272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28640" y="418932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89120" y="4210200"/>
                <a:ext cx="841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4920" y="4189320"/>
                <a:ext cx="896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78080" y="4197240"/>
                <a:ext cx="1287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87440" y="483408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218040" y="4759200"/>
                <a:ext cx="1064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70360" y="3322800"/>
                <a:ext cx="1235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799240" y="3324240"/>
                <a:ext cx="14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78680" y="3338640"/>
                <a:ext cx="17398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7800" y="1824120"/>
                <a:ext cx="4026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3188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33800" y="2678040"/>
                <a:ext cx="1287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92560" y="331164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54360" y="2608200"/>
                <a:ext cx="1681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72120" y="2736720"/>
                <a:ext cx="1067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067520" y="2589120"/>
                <a:ext cx="20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28640" y="418932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48080" y="421020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74920" y="4189320"/>
                <a:ext cx="896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93920" y="4199040"/>
                <a:ext cx="1287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414440" y="48052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44680" y="475920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348080" y="3336840"/>
                <a:ext cx="1684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26240" y="3324240"/>
                <a:ext cx="1347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012080" y="3338640"/>
                <a:ext cx="2131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359240" y="4191120"/>
                <a:ext cx="17398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854680" y="4191120"/>
                <a:ext cx="14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010280" y="4176720"/>
                <a:ext cx="2133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383000" y="4802040"/>
                <a:ext cx="1629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837400" y="4802040"/>
                <a:ext cx="14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067520" y="4848120"/>
                <a:ext cx="20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7800" y="1824120"/>
                <a:ext cx="4026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104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73320" y="2712960"/>
                <a:ext cx="1288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28920" y="270504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92560" y="331164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419720" y="2608200"/>
                <a:ext cx="14000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607000" y="2637000"/>
                <a:ext cx="1629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067520" y="2589120"/>
                <a:ext cx="2076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11280" y="5614920"/>
                <a:ext cx="3814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28560" y="418932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48080" y="421020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239840" y="4175280"/>
                <a:ext cx="1290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389400" y="4200480"/>
                <a:ext cx="8953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414440" y="48052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44680" y="475920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376880" y="3336840"/>
                <a:ext cx="1627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826240" y="3324240"/>
                <a:ext cx="1347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2080" y="3338640"/>
                <a:ext cx="2131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960" y="1824120"/>
                <a:ext cx="3787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al Pairs of Factors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61880" y="266220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58880" y="2727360"/>
                <a:ext cx="841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700360" y="2892600"/>
                <a:ext cx="56052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504800" y="272736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73480" y="267804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44680" y="334332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92560" y="331164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3863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35720" y="196704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778280" y="2608200"/>
                <a:ext cx="1233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951520" y="2709720"/>
                <a:ext cx="10666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007400" y="2604960"/>
                <a:ext cx="1739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31640" y="41241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1640" y="4189320"/>
                <a:ext cx="897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48080" y="4210200"/>
                <a:ext cx="896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74920" y="4189320"/>
                <a:ext cx="896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33600" y="4199040"/>
                <a:ext cx="1006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414440" y="480528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44680" y="4759200"/>
                <a:ext cx="1009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0" y="3336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734080" y="3338640"/>
                <a:ext cx="1347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012080" y="3370320"/>
                <a:ext cx="179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611600" y="4191120"/>
                <a:ext cx="12351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792760" y="4189320"/>
                <a:ext cx="14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054920" y="4192560"/>
                <a:ext cx="1739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271600" y="5614920"/>
                <a:ext cx="4094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80960" y="1576440"/>
                <a:ext cx="4408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81080" y="227484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by fact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0600" y="234000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359080" y="250524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63520" y="2340000"/>
                <a:ext cx="897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932200" y="229068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03400" y="2955960"/>
                <a:ext cx="1008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06720" y="295128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950080" y="1704960"/>
            <a:ext cx="46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7200" y="1704960"/>
            <a:ext cx="4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878440" y="2325600"/>
                <a:ext cx="6922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562800" y="2384280"/>
                <a:ext cx="823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415280" y="2306520"/>
                <a:ext cx="10825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25760" y="3556080"/>
                <a:ext cx="4768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731960" y="4262400"/>
                <a:ext cx="2687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049720" y="421812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48080" y="4842000"/>
                <a:ext cx="89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506760" y="483084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504040" y="48211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572160" y="4809960"/>
                <a:ext cx="10051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851120" y="558000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5960" y="558324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558880" y="5513400"/>
                <a:ext cx="895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357720" y="5540400"/>
                <a:ext cx="1400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910120" y="569448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453360" y="5538960"/>
                <a:ext cx="1401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2629080" y="62164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08600" y="62056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55800" y="613260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157640" y="613260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98360" y="5396040"/>
                <a:ext cx="17924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3-02-03T21:04:23Z</dcterms:modified>
  <cp:revision>13</cp:revision>
  <dc:subject/>
  <dc:title>Slide 1</dc:title>
</cp:coreProperties>
</file>